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D5B6-B345-4EAC-A1A5-287148D1C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senior developer and das coordinator at the sanger, previously I was a bioinformatics consultant and used DAS many years ago as an “user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S Stops us from suffering under too much data to man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us to download annotations for regions of interest rather than for whole genomes or data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data providers to be in control of their annotations displayed to the world and can keep them up to date for u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ed Annotation System, allows  data providers to provide their data over the web in a common form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t of possible http requests and standard xml respo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embl, Apollo, Gbrowse, Spice for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e system can be a genome build such ncbi_36 or uniprot protein sequences for alig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ient can then get a list of das sources that are available for each coordinate system which the user chooses ones of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ient/user then chooses a region of interest e.g. human chromosome 1 bases 1 million 1.1 m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ient then shows the annotations on this region from local sources as well as remote das 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S1 in early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S1.53E later with support for proteins added and the reg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ity of users see no great advantage of moving to DA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s or DAS1 servers compared to a handful of DAS2 ser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0EC0-5601-4671-916A-50FCA073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D211-50B9-44CD-A78D-B1E927E3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35B6-BA44-422F-9815-387F7C0D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FFCB-E45C-4B69-8A6A-166F9926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9093-CD91-41D6-8716-383D002B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9FBC-4333-491C-9FD9-128C5CE1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1017-07E4-4444-A71C-C0335222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4130-12ED-494C-AB67-A9D716E8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39F7-1BE0-4503-9220-DD8CC983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1728-34C4-4972-9107-2667C4C6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5138-F62E-4BCD-A7F8-6D3DC684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CEB2-6B0C-406B-86C8-B2A2A9D3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7160-95FF-45CA-B47A-F2B1B8AA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2188-84D8-4904-831D-13A156BA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6023-7846-4C6C-9520-48F3A5E8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E595-3915-4051-AC47-4C01BA73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7079-63E3-4DC4-B3CB-1C7B34BB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585C-6750-4F03-90A1-B7C83D3C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4561-3F36-45A0-81F2-E6040A6E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C326-0A5C-4E3E-B9DB-C04183FE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9C9C-A68B-46AA-9759-DA0231D2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5951-D15D-4F54-B904-6B0B786B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02D9-C79D-438F-B507-63AA0310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178E-B9F6-456C-922F-2A84CD0C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1730-0D0E-49CB-A4B5-5606A108C0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E61C-7964-412D-A024-2B27D8E973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iodas.org/" TargetMode="External"/><Relationship Id="rId2" Type="http://schemas.openxmlformats.org/officeDocument/2006/relationships/hyperlink" Target="http://www.dasregistry.org/" TargetMode="External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dasregistry.org/das/sources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dasregistry.org/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Current Situation and Future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athan War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coordinator for the Sanger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bioda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asregistry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ressing issues co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identify when two DAS servers are using the same coordinate system (doable with help of Sanger DAS regist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standard way to create and edit DAS features 1.6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ressing issues co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ify whether a DAS server is compliant with the 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for improving interoperability between clients and servers developed by different groups. The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validation capability of the registry for 1.53E and upcoming 1.6E sp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x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dasregistry.org/validation/sources.r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91540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991720" cy="5546880"/>
          </a:xfrm>
          <a:prstGeom prst="rect">
            <a:avLst/>
          </a:prstGeom>
          <a:ln w="9360">
            <a:solidFill>
              <a:srgbClr val="e81a07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533520" y="76320"/>
            <a:ext cx="863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asregistry.org/das/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dasregistry.org/services/das:das_directory?ws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2819520"/>
            <a:ext cx="1676160" cy="838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1800" y="684000"/>
            <a:ext cx="734040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1800" y="2118960"/>
            <a:ext cx="73404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validation (headers and feature by i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ility of bulk uploading/mirroring DAS sources to Registry (sources cm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all of ensembl genomes (bacteria and viruses) as DAS sources and to the regi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ing the 1.6 spec - hierarchies, nextFe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ing client libraries and servers to work with both 1.53 and 1.6 sp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continu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user interface to the registry for faster searching using Lucene - also limited version available from Sanger and EBI s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er supprt for ontologies-give me all das sources that provide ge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rari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erver, LDAS -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::Das::Lite - client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zzle, MyDAS -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obert - client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DAS provider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 Affyme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BioSapiens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Ensembl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KEGG 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Sanger DA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EBI Genomic DA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EBI Protein DA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Uniprot DAS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TIGR's listing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UCSC ser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cli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 Ensemb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Da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Pf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DASh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D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history and current sit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we doing at the moment and where are we g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lin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biodas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dasregistry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m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y Jenkinson (EB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as Pr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gg H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 S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 Hubb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80010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27400"/>
            <a:ext cx="755640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ribu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notat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HTTP and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oordinat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s to one registry for DAS server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a region of interest from the reference and many annotations from the DAS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Content Placeholder 7" descr="Canonical DAS.tiff"/>
          <p:cNvPicPr/>
          <p:nvPr/>
        </p:nvPicPr>
        <p:blipFill>
          <a:blip r:embed="rId1"/>
          <a:srcRect l="0" t="-2192" r="0" b="-2192"/>
          <a:stretch/>
        </p:blipFill>
        <p:spPr>
          <a:xfrm>
            <a:off x="0" y="1752480"/>
            <a:ext cx="914400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s are “intellig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s should be spec compli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reques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xml format retu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1 The Distributed Annota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in D Dowell, Rodney M Jokerst, Allen Day, Sean R Eddy and Lincoln S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1.53E + DAS2 running in parall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workshop in March this year DAS1.6E is expected to provide the functionality that DAS2 users desired =&gt; DAS2 is de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6 spec has new features and is a consolidation of the way DAS is being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6E has extensions being develop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DAS 1.5/1.6 Command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yle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ituation- addressing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 features with more than two levels 1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ly relate feature types to a more structured ontology 1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09:06:24Z</dcterms:created>
  <dc:creator>Sanger Institute</dc:creator>
  <dc:description/>
  <dc:language>en-US</dc:language>
  <cp:lastModifiedBy>Sanger Institute</cp:lastModifiedBy>
  <dcterms:modified xsi:type="dcterms:W3CDTF">2009-08-07T14:26:31Z</dcterms:modified>
  <cp:revision>43</cp:revision>
  <dc:subject/>
  <dc:title>DAS Current Situation and Future Developments</dc:title>
</cp:coreProperties>
</file>